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6CC-2069-401C-BA42-F3B7F1F3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6A2-F350-4E9D-9DAE-3A2FEFB5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55A-C2F7-48EC-AE58-52535868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FE6-5CAA-439A-895B-FBE29652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3539-6012-4FE4-8E29-B3E4DA93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9DA4-D732-4504-9031-27644B1D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547F-3182-4604-A57E-CC210E84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0BB7-5655-46A9-9F74-FB1F506F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619B-94FF-4478-924F-5DC95685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A8F3-3D09-4A83-B94C-0166C25C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AE1D-7DB7-450F-A26B-AC1DA760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030-E449-411D-B98B-231EC61F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045B-5A32-46DE-8E39-723BBEDA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7DC9-68A0-42EC-B297-5FBF5E2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53C3-8D00-4AE7-9E31-606CF517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9690-A349-445E-A2C8-57ECEFAC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DA66-DAB4-44B9-9A06-1FC8585C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EBD-7C62-422F-9CED-28EB9D8A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D66-C646-47B7-824D-9553D78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DFB-DE0B-4385-AD63-FACD7734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890-6EDD-4650-8D43-9972FFF4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02C-AA67-45F3-B7B2-45E6AA8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CCC-03EB-4465-88C9-D92A436F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73D-9FEF-4FC3-B1DB-71A1D3B8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2F3-491D-4FAF-95D8-88075507EA7E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EDC9-6E96-4C9B-9C24-4442D277C386}" type="slidenum">
              <a:rPr b="0" lang="el-GR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16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7d47d"/>
                </a:solidFill>
                <a:latin typeface="Arial"/>
              </a:rPr>
              <a:t>Ευάλωτες Κοινωνικά Ομάδες</a:t>
            </a:r>
            <a:br>
              <a:rPr sz="3200"/>
            </a:br>
            <a:r>
              <a:rPr b="0" lang="el-GR" sz="3200" spc="-1" strike="noStrike">
                <a:solidFill>
                  <a:srgbClr val="f7d47d"/>
                </a:solidFill>
                <a:latin typeface="Arial"/>
              </a:rPr>
              <a:t>Κρατούμενοι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Ιωσήφ Φραγκούλη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Περιεχόμενο εκπαιδευτικού Συμβολαίου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ύμφωνα με τον Rogers (1999) το συμβόλαιο πρέπει να περιέχει τουλάχιστον τα παρακάτω στοιχεία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ε τι αναφέρεται το πρόγραμμα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ποιο είναι το θέμα του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τι θα καλύψει και σε ποιο επίπεδο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ποια είναι η μορφή του προγράμματο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Περιεχόμενο εκπαιδευτικού Συμβολαίου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πόσο θα διαρκέσει και ποια θα είναι η συχνότητα και η διάρκεια των συναντήσεω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τι είδους εργασίες θα απαιτηθούν στις συναντήσεις ή στη διάρκεια των συναντήσεων της ομάδας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ποιες είναι οι υποχρεώσεις τους από τη συμμετοχή τους στο πρόγραμμ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Διερεύνηση επιμορφωτικών αναγκώ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ερωτηματολόγιο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συνεντεύξει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προφορική επικοινωνία- συζήτ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Χαρακτηριστικά Εγκλεισμού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Ελευθερί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Υλικών Αγαθώ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εξουαλική Στέρ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Αυτονομί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Ασφάλει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οινωνικός Αποκλεισμός-Περιθωριοποί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Λόγοι που καθιστούν αναγκαία την εκπαίδευση κρατουμένων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Επανασύνδεση κρατουμένων με την εκπαιδευτική διαδικασί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και αναβάθμιση βασικών δεξιοτήτων (δυνατότητα παραγωγής γραπτού και προφορικού λόγου, κατανόηση κειμένων, κτλ.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νέων βασικών δεξιοτήτων (χρήση Η/Υ, παραγωγή κειμένων, διαμόρφωση αιτήσεων, επεξεργασία εικόνας, κτλ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Λόγοι που καθιστούν αναγκαία την εκπαίδευση κρατουμένων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κοινωνικών δεξιοτήτων (δυνατότητα επικοινωνίας και επίλυσης προβλημάτων που αφορούν στην καθημερινή ζωή, π.χ. γραπτή υποβολή αίτησης, αναζήτηση πληροφορίας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Δημιουργική αξιοποίηση ελεύθερου χρόνο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Επαγγελματικός επαναπροσανατολισμό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93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7d47d"/>
                </a:solidFill>
                <a:latin typeface="Arial"/>
              </a:rPr>
              <a:t>Διαφορές στην εκπαίδευση των κρατουμένων σε σχέση με την εκπαίδευση του γενικού πληθυσμού 1/2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το γενικό πληθυσμό οι εκπαιδευόμενοι έχουν το δικαίωμα της επιλογής, του αυτοκαθορισμού και της αυτοδιάθεσης ενώ στον έγκλειστο πληθυσμό τα ίδια δικαιώματα ακυρώνοντα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το γενικό πληθυσμό οι μαθητές έχουν πλήθος εμπειριών τις οποίες χρησιμοποιούν θέτοντας ανάλογους στόχους. Ο έγκλειστος πληθυσμός έχει συχνά αρνητικές εμπειρίες από το εκπαιδευτικό σύστημα και είναι ιδιαίτερα επιφυλακτικός απέναντι σε κάθε νέα πρόκληση εκπαιδευτικής προσπάθειας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46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7d47d"/>
                </a:solidFill>
                <a:latin typeface="Arial"/>
              </a:rPr>
              <a:t>Διαφορές στην εκπαίδευση των κρατουμένων σε σχέση με την εκπαίδευση του γενικού πληθυσμού 2/2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Στο γενικό πληθυσμό οι εκπαιδευόμενοι επιδιώκουν μέσω της παιδείας τη βελτίωσης των όρων της ζωής τους και την αντιμετώπιση των προβλημάτων τους με τον καλύτερο δυνατό τρόπο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για τους κρατούμενους πρώτιστος στόχος είναι η αποφυλάκιση και η επιβίωση στον χώρο του εγκλεισμού που γεννά πολλά δεινά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Το αίτημα για επανάκτηση της ελευθερίας, της ανεξαρτησία, της ασφάλεια και της κοινωνικής αποδοχής υπερέχει έναντι του αιτήματος για εκπαίδευση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Ρόλος εκπαιδευτή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Υποστηρικ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Ενθαρρυν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ιευκολυν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οινων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ιαμεσολαβη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υμβουλευ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Ενεργού ακροατή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Ενέργειες εκπαιδευτή για να είναι αποτελεσματικός στο έργο του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Καταρτίζει από κοινού με την ομάδα το εκπαιδευτικό συμβόλαιο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Δεν ρωτά ποτέ τα μέλη της ομάδας για τα τυχόν τελεσθέντα αδικήματα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Προσέρχεται πάντα στην ώρα το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Προετοιμάζει με συνέπεια το μάθημα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Δεν δίνει ούτε και παίρνει πράγματα από τα μέλη της ομάδα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Ενέργειες εκπαιδευτή για να είναι αποτελεσματικός στο έργο του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έβεται τους κανόνες της φυλακή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εν δίνει υποσχέσεις που δεν μπορεί να τηρήσε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Αποφεύγει να φορτίσει το κλίμα και να πυροδοτήσει συγκρούσεις με το περιεχόμενο της διδασκαλίας του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ρατά ουδέτερη στάση σε περίπτωση σύγκρουσης στην ομάδα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Γεώργιος Φραγκούλης</cp:lastModifiedBy>
  <dcterms:modified xsi:type="dcterms:W3CDTF">2022-05-18T06:19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